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056986"/>
        <c:axId val="66782437"/>
      </c:barChart>
      <c:catAx>
        <c:axId val="56056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82437"/>
        <c:crosses val="autoZero"/>
        <c:auto val="1"/>
        <c:lblAlgn val="ctr"/>
        <c:lblOffset val="100"/>
        <c:noMultiLvlLbl val="0"/>
      </c:catAx>
      <c:valAx>
        <c:axId val="667824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56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3324-5CD9-4EBC-9238-3BF9054A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011-7A3F-4097-BD2E-401872D0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0ED9-23A9-4452-B8B4-1E05C725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ACE2-6021-4CC7-9A2A-FBD23FB4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93E1-17F0-4E1A-B7B6-BB9D9BC1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4A0-1306-4B6E-BFBA-F5515ACA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E515-409C-43CE-9E63-B94F0929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044-334A-4A96-A2F4-64CCD744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AE9-C9BC-4B0C-878C-E17B3CB3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FD4-CA1B-4B91-8B1D-B3C4A335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7183-4967-46B1-B4D3-1B9B10CA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153-B406-4B1F-BB07-5C78AC40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16A55-F071-4C96-B0D3-FC06F1E1B3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