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06025"/>
        <c:axId val="98527428"/>
      </c:barChart>
      <c:catAx>
        <c:axId val="61606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27428"/>
        <c:crosses val="autoZero"/>
        <c:auto val="1"/>
        <c:lblAlgn val="ctr"/>
        <c:lblOffset val="100"/>
        <c:noMultiLvlLbl val="0"/>
      </c:catAx>
      <c:valAx>
        <c:axId val="98527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06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15B-39E9-4352-BB8F-5201A8FF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120-6D3F-43CF-B85C-D154D3FA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EE9-0524-465F-9423-555800DC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72D-6F21-47D5-8520-13C7B8C3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E93-02AE-47FE-B1A1-9C027832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A8C-7FAA-4D3D-A6D8-7EDFB3A5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41E-98B1-4A1C-A9A3-CAD00602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F0A-C439-4D7E-8921-813FE540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304-DF5D-4E71-BF8F-CCE17B74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504-D5A0-4FC2-8C90-3A3AC380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EAF-322C-464B-87A5-12FAA051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DA1-7076-4C28-8A71-3FE2E8D4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7E998-517C-4A2B-80D9-B6210E9B68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